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E11-8A91-4FBA-951B-DEC8AF41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C76-1694-40ED-9DEF-1B7CE7D3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43F-05A3-4BC2-B838-AA5E0F44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BD4-E4A2-46A4-B5FA-CA0111FA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28BDD-45FA-447A-8A9E-CBB4B44D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DD6ED-AFF2-4B44-B012-993A44AA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138F4-41F8-4CE5-A5E7-C3A13FF1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00B54-92EA-4469-A0A2-AC916C28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5A8C7-C958-41CC-B048-368F4E70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E2FBF-6367-4C29-A3CF-89BE48E9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2D212-E4F0-4478-9453-6A32CF82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1F0-C290-4488-A545-F97B2355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22A73-F62F-4843-B7BA-5D802C17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ECCE6-8702-48DD-A6C6-C766EB07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CB107-565E-49D7-90F7-0D36B328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6A5B9-7BD7-48EE-BC80-349DB6FD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8EDB1-BB69-4681-A92F-25153D45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5CD9-0578-4275-95D9-2D6782C3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429-134D-4CE0-A77A-42D4F004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5A1-AE69-4ECE-92DD-100DDD08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327-A566-4CDA-9E02-114D3AC8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CE7-A0B3-4543-A19C-1ADB8A70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5FB-4DAB-4F85-A2DD-9DD603B7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A73-9E01-4658-8808-A760740C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76A9-6943-4AF4-A510-EF2EAF04E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6732-83AE-4E4E-BD51-EF72F8B31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3300"/>
                </a:solidFill>
                <a:latin typeface="Tahoma"/>
              </a:rPr>
              <a:t>DISTRIBUCIÓN DE BERNOULL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4000" y="2565360"/>
            <a:ext cx="8820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niversidad Autónoma de Queréta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obabilidad y estadís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imer semest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upo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uis Enrique Cabral Vázquez Del Merc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orena Andrea García Delg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205000"/>
            <a:ext cx="842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robabilidad de que salga alguna carta específ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3738240" cy="4271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435640" y="2421000"/>
            <a:ext cx="2367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robabilidad que salga un as de corazones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uando sacamos una carta de una baraja inglesa tenemos 52 posibles resul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considera como éxito el sacar un as de corazones, y su probabilidad es 1/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1 / 52 = 5 1/ 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tanto, la variable aleatoria X se distribuye como una Bernoulli de parámetr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/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/52 = 1.92% de probabi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cc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ff"/>
                </a:solidFill>
                <a:latin typeface="Script MT Bold"/>
              </a:rPr>
              <a:t>Muchas gracias por su atención</a:t>
            </a:r>
            <a:br>
              <a:rPr sz="6600"/>
            </a:br>
            <a:br>
              <a:rPr sz="6600"/>
            </a:br>
            <a:r>
              <a:rPr b="1" i="1" lang="es-MX" sz="6600" spc="-1" strike="noStrike" u="sng">
                <a:solidFill>
                  <a:srgbClr val="ffffff"/>
                </a:solidFill>
                <a:uFillTx/>
                <a:latin typeface="Script MT Bold"/>
              </a:rPr>
              <a:t>¡</a:t>
            </a:r>
            <a:r>
              <a:rPr b="1" i="1" lang="es-MX" sz="6600" spc="-1" strike="noStrike">
                <a:solidFill>
                  <a:srgbClr val="ffffff"/>
                </a:solidFill>
                <a:latin typeface="Script MT Bold"/>
              </a:rPr>
              <a:t>Les deseamos un bonito día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1280" y="0"/>
            <a:ext cx="4835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niel Bernoull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(1700-1782)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50920" y="1916280"/>
            <a:ext cx="476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iz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atemático, estadístico, físico y méd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59748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4724280"/>
            <a:ext cx="8893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1738 publicó “Hidrodinámica” en el que expone el “principio de Bernoulli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izo importantes contribuciones a la teoría de probab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4788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Tahoma"/>
              </a:rPr>
              <a:t>Definición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120" y="2205000"/>
            <a:ext cx="864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una variable aleatoria discreta que mide el número de éxi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 realiza con un único experi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dicotómica porque tiene 2 posibles resultados (éxito o fracas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Se representa com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Éxito “p” y fracaso “q” = (1 – 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 fórmula 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s-E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−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 − </a:t>
            </a:r>
            <a:r>
              <a:rPr b="0" i="1" lang="es-E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con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{0,1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 función de distribu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5300640"/>
            <a:ext cx="468000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3 Imagen" descr="\begin{displaymath}F(x) = \left\{&#10;\begin{array}{ll}&#10;0 &amp; \mbox{ si } x &lt; 0&#10;\\&#10;q ...&#10;... } 0 \leq x&lt; 1&#10;\\&#10;1 &amp; \mbox{ si } x \geq 1&#10;\end{array}\right.&#10;\end{displaymath}"/>
          <p:cNvPicPr/>
          <p:nvPr/>
        </p:nvPicPr>
        <p:blipFill>
          <a:blip r:embed="rId2"/>
          <a:stretch/>
        </p:blipFill>
        <p:spPr>
          <a:xfrm>
            <a:off x="2987640" y="5229360"/>
            <a:ext cx="42912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968560"/>
            <a:ext cx="5545080" cy="38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Ejemplos de su us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anzamiento de moned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005280"/>
            <a:ext cx="5508720" cy="3852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935680" y="2421000"/>
            <a:ext cx="26686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Tahoma"/>
              </a:rPr>
              <a:t>"Lanzar una moneda, probabilidad de conseguir que salga cruz".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Se trata de un solo experimento, con dos resultados posibles: el éxito (p) se considerará sacar cruz. Valdrá 0,5. El fracaso (q) que saliera cara, que vale (1 - p) = 1 - 0,5 = 0,5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La variable aleatoria X medirá "número de cruces que salen en un lanzamiento", y sólo existirán dos resultados posibles: 0 (ninguna cruz, es decir, salir cara) y 1 (una cruz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0) = 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1) =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) = 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0,5</a:t>
            </a:r>
            <a:r>
              <a:rPr b="0" lang="es-ES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anzamiento de dad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4824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robabilidad que al lanzar un dado salga un 6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ando lanzamos un dado tenemos 6 posibles resultad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Ω = {1,2,3,4,5,6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considera éxito sacar un 6, por tanto, la probabilidad será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/ 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considera fracaso no sacar un 6, por tanto, se considera fracaso sacar cualquier otro resul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 − 1 / 6 = 5 /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tanto, la variable aleatoria X se distribuye como una Bernoulli de parámetr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= 1/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˜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B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1 / 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La probabilidad de que obtengamos un 6 viene definida como la probabilidad de que X sea igual a 1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1) = 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1) = (1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* (5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1 / 6 = 0.1667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La probabilidad de que NO obtengamos un 6 viene definida como la probabilidad de que X sea igual a 0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0) = </a:t>
            </a:r>
            <a:r>
              <a:rPr b="0" i="1" lang="es-ES" sz="2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(0) = (1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* (5 / 6)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= 5 / 6 = 0.8333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0:44:57Z</dcterms:created>
  <dc:creator>COMPUTADORA</dc:creator>
  <dc:description/>
  <dc:language>en-US</dc:language>
  <cp:lastModifiedBy>COMPUTADORA</cp:lastModifiedBy>
  <dcterms:modified xsi:type="dcterms:W3CDTF">2010-04-18T21:37:32Z</dcterms:modified>
  <cp:revision>7</cp:revision>
  <dc:subject/>
  <dc:title>DISTRIBUCIÓN DE BERNOULLI</dc:title>
</cp:coreProperties>
</file>