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1779-7873-4FC5-B54F-9AD0BBF9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5208-0193-4300-A0B6-58711E2A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3AAA-50C2-4144-A90B-A0C0D65C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22A5-F125-466A-88E4-9ED4F466C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87AEA-D7BC-47DE-8ECB-E5E9D9C4A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CCC93-3D7D-4C28-A8CE-0437F6DA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2BA7E-0329-4E3B-A682-130EA9D4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26F33-C700-40A1-BDA5-53B31345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82379-1AED-4FBC-B9A6-37A9288C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E894E-E304-427B-A32A-A716887F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96F27-2282-4287-8B56-FCB75CE2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D685-B241-4485-B6D0-66838281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D27CD-7D54-4634-94E5-8BC520DE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832E5-24A8-4BAE-BC17-3789391E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94D52-7345-4116-ADA7-776CE3BF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2EBA6-C830-487A-BB77-1945589C8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04072-B71C-4E19-A24F-D94E63AC0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6876-C185-404D-9F80-1D3983CA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1B6C-CFBE-4F48-850A-A96A0F19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0601-5F07-453F-A419-827428F1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2A91-1943-4282-949B-A3F688BB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46DC-EA6A-4017-8926-47401D5A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774F-A9C0-44F2-9571-AC51EFEA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5EBE-706E-4906-B01D-2B2C9995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78BE-ADFC-4075-9E28-CFA94903E9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28DC-6F68-40AF-9DF8-937072E6AB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3300"/>
                </a:solidFill>
                <a:latin typeface="Tahoma"/>
              </a:rPr>
              <a:t>DISTRIBUCIÓN DE BERNOULLI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24000" y="2565360"/>
            <a:ext cx="88200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Universidad Autónoma de Queréta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robabilidad y estadíst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rimer semest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Grupo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Luis Enrique Cabral Vázquez Del Merca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Lorena Andrea García Delga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205000"/>
            <a:ext cx="842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robabilidad de que salga alguna carta específic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3738240" cy="4271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435640" y="2421000"/>
            <a:ext cx="2367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Probabilidad que salga un as de corazones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uando sacamos una carta de una baraja inglesa tenemos 52 posibles resulta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considera como éxito el sacar un as de corazones, y su probabilidad es 1/5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= 1 −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= 1 − 1 / 52 = 5 1/ 5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or tanto, la variable aleatoria X se distribuye como una Bernoulli de parámetro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= 1/5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/52 = 1.92% de probabilida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cc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600" spc="-1" strike="noStrike">
                <a:solidFill>
                  <a:srgbClr val="ffffff"/>
                </a:solidFill>
                <a:latin typeface="Script MT Bold"/>
              </a:rPr>
              <a:t>Muchas gracias por su atención</a:t>
            </a:r>
            <a:br>
              <a:rPr sz="6600"/>
            </a:br>
            <a:br>
              <a:rPr sz="6600"/>
            </a:br>
            <a:r>
              <a:rPr b="1" i="1" lang="es-MX" sz="6600" spc="-1" strike="noStrike" u="sng">
                <a:solidFill>
                  <a:srgbClr val="ffffff"/>
                </a:solidFill>
                <a:uFillTx/>
                <a:latin typeface="Script MT Bold"/>
              </a:rPr>
              <a:t>¡</a:t>
            </a:r>
            <a:r>
              <a:rPr b="1" i="1" lang="es-MX" sz="6600" spc="-1" strike="noStrike">
                <a:solidFill>
                  <a:srgbClr val="ffffff"/>
                </a:solidFill>
                <a:latin typeface="Script MT Bold"/>
              </a:rPr>
              <a:t>Les deseamos un bonito día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51280" y="0"/>
            <a:ext cx="4835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aniel Bernoulli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(1700-1782)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50920" y="1916280"/>
            <a:ext cx="4762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uiz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atemático, estadístico, físico y médi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597480" cy="4392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0920" y="4724280"/>
            <a:ext cx="8893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 1738 publicó “Hidrodinámica” en el que expone el “principio de Bernoulli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Hizo importantes contribuciones a la teoría de probabil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4788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ff"/>
                </a:solidFill>
                <a:latin typeface="Tahoma"/>
              </a:rPr>
              <a:t>Definición: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120" y="2205000"/>
            <a:ext cx="864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s una variable aleatoria discreta que mide el número de éxi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e realiza con un único experim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s dicotómica porque tiene 2 posibles resultados (éxito o fracas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Se representa como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Éxito “p” y fracaso “q” = (1 – p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u fórmula 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) =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i="1" lang="es-ES" sz="3200" spc="-1" strike="noStrike" baseline="30000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1 −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s-ES" sz="3200" spc="-1" strike="noStrike" baseline="30000">
                <a:solidFill>
                  <a:srgbClr val="ffffff"/>
                </a:solidFill>
                <a:latin typeface="Tahoma"/>
              </a:rPr>
              <a:t>1 − </a:t>
            </a:r>
            <a:r>
              <a:rPr b="0" i="1" lang="es-ES" sz="3200" spc="-1" strike="noStrike" baseline="30000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con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= {0,1}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u función de distribu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771640" y="5300640"/>
            <a:ext cx="4680000" cy="13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3 Imagen" descr="\begin{displaymath}F(x) = \left\{&#10;\begin{array}{ll}&#10;0 &amp; \mbox{ si } x &lt; 0&#10;\\&#10;q ...&#10;... } 0 \leq x&lt; 1&#10;\\&#10;1 &amp; \mbox{ si } x \geq 1&#10;\end{array}\right.&#10;\end{displaymath}"/>
          <p:cNvPicPr/>
          <p:nvPr/>
        </p:nvPicPr>
        <p:blipFill>
          <a:blip r:embed="rId2"/>
          <a:stretch/>
        </p:blipFill>
        <p:spPr>
          <a:xfrm>
            <a:off x="2987640" y="5229360"/>
            <a:ext cx="42912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2968560"/>
            <a:ext cx="5545080" cy="38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Ejemplos de su uso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Lanzamiento de moned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3005280"/>
            <a:ext cx="5508720" cy="3852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935680" y="2421000"/>
            <a:ext cx="26686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Tahoma"/>
              </a:rPr>
              <a:t>"Lanzar una moneda, probabilidad de conseguir que salga cruz".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ahoma"/>
              </a:rPr>
              <a:t>Se trata de un solo experimento, con dos resultados posibles: el éxito (p) se considerará sacar cruz. Valdrá 0,5. El fracaso (q) que saliera cara, que vale (1 - p) = 1 - 0,5 = 0,5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ahoma"/>
              </a:rPr>
              <a:t>La variable aleatoria X medirá "número de cruces que salen en un lanzamiento", y sólo existirán dos resultados posibles: 0 (ninguna cruz, es decir, salir cara) y 1 (una cruz)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= 0) =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0) = 0,5</a:t>
            </a:r>
            <a:r>
              <a:rPr b="0" lang="es-ES" sz="3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0,5</a:t>
            </a:r>
            <a:r>
              <a:rPr b="0" lang="es-ES" sz="32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= 0,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= 1) =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1) = 0,5</a:t>
            </a:r>
            <a:r>
              <a:rPr b="0" lang="es-ES" sz="32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0,5</a:t>
            </a:r>
            <a:r>
              <a:rPr b="0" lang="es-ES" sz="3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= 0,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Lanzamiento de dad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76360" y="1773360"/>
            <a:ext cx="482436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Probabilidad que al lanzar un dado salga un 6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uando lanzamos un dado tenemos 6 posibles resultad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Ω = {1,2,3,4,5,6}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considera éxito sacar un 6, por tanto, la probabilidad será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= 1 / 6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considera fracaso no sacar un 6, por tanto, se considera fracaso sacar cualquier otro resul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= 1 −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= 1 − 1 / 6 = 5 /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or tanto, la variable aleatoria X se distribuye como una Bernoulli de parámetro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= 1/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˜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Be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(1 / 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La probabilidad de que obtengamos un 6 viene definida como la probabilidad de que X sea igual a 1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ES" sz="26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= 1) = </a:t>
            </a:r>
            <a:r>
              <a:rPr b="0" i="1" lang="es-ES" sz="26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(1) = (1 / 6)</a:t>
            </a:r>
            <a:r>
              <a:rPr b="0" lang="es-ES" sz="26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* (5 / 6)</a:t>
            </a:r>
            <a:r>
              <a:rPr b="0" lang="es-ES" sz="26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= 1 / 6 = 0.1667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La probabilidad de que NO obtengamos un 6 viene definida como la probabilidad de que X sea igual a 0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ES" sz="26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= 0) = </a:t>
            </a:r>
            <a:r>
              <a:rPr b="0" i="1" lang="es-ES" sz="26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(0) = (1 / 6)</a:t>
            </a:r>
            <a:r>
              <a:rPr b="0" lang="es-ES" sz="26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* (5 / 6)</a:t>
            </a:r>
            <a:r>
              <a:rPr b="0" lang="es-ES" sz="26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= 5 / 6 = 0.8333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20:44:57Z</dcterms:created>
  <dc:creator>COMPUTADORA</dc:creator>
  <dc:description/>
  <dc:language>en-US</dc:language>
  <cp:lastModifiedBy>COMPUTADORA</cp:lastModifiedBy>
  <dcterms:modified xsi:type="dcterms:W3CDTF">2010-04-18T21:37:32Z</dcterms:modified>
  <cp:revision>7</cp:revision>
  <dc:subject/>
  <dc:title>DISTRIBUCIÓN DE BERNOULLI</dc:title>
</cp:coreProperties>
</file>