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019-C25A-4B56-ACE6-791BD928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4AE-21FB-4541-AEF0-BD7C77DA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69E-7A6C-41B9-A84D-6D19CBAC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55F-11A7-42D5-9C5A-7AA1CF10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2CF43-D2C4-44DD-9146-662B255C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ED70F-A1B2-4E41-9556-D1430BDD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060C2-1859-40C3-9340-32F77AEB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B2962-C394-44C9-95FB-AA8FE1A4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B72DB-894B-444D-BC73-56DF1DC1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E9BA2-1ECC-42C8-960A-B2A08011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4F2BD-B198-4424-A0E6-8C306068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1E6-F3CE-4959-8B86-7061EA3E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792C7-A23C-4937-8682-8D09D9FC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46F69-B950-4002-9967-E82CB669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5CD48-AE8B-4F01-AFE7-AD778F8D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6C612-AC19-4F31-996E-0CF0C57B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6C42F-B113-4746-B796-BD6F6804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48E7-30C6-4BF4-9BB1-D786A6BB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F07-A565-45D3-BAAA-66E89AE6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F90-B910-444D-A9AD-E251D388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BFCB-5E15-4231-968B-D35BEFDF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012-9DF6-4AC6-8637-1204E194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DA0-F8FC-4C23-981D-568301E8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0A2-0C89-4FF6-BBCC-46097201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867E-1129-4E1C-95B1-C49BB1890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C4F6-F8ED-45CE-9DD3-C49D6F8A77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3300"/>
                </a:solidFill>
                <a:latin typeface="Tahoma"/>
              </a:rPr>
              <a:t>DISTRIBUCIÓN DE BERNOULL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4000" y="2565360"/>
            <a:ext cx="8820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niversidad Autónoma de Queréta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obabilidad y estadís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imer semest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upo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uis Enrique Cabral Vázquez Del Merc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orena Andrea García Delg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205000"/>
            <a:ext cx="842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robabilidad de que salga alguna carta específ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3738240" cy="4271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435640" y="2421000"/>
            <a:ext cx="2367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Probabilidad que salga un as de corazones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uando sacamos una carta de una baraja inglesa tenemos 52 posibles resul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considera como éxito el sacar un as de corazones, y su probabilidad es 1/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1 / 52 = 5 1/ 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r tanto, la variable aleatoria X se distribuye como una Bernoulli de parámetr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/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/52 = 1.92% de probabi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cc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ff"/>
                </a:solidFill>
                <a:latin typeface="Script MT Bold"/>
              </a:rPr>
              <a:t>Muchas gracias por su atención</a:t>
            </a:r>
            <a:br>
              <a:rPr sz="6600"/>
            </a:br>
            <a:br>
              <a:rPr sz="6600"/>
            </a:br>
            <a:r>
              <a:rPr b="1" i="1" lang="es-MX" sz="6600" spc="-1" strike="noStrike" u="sng">
                <a:solidFill>
                  <a:srgbClr val="ffffff"/>
                </a:solidFill>
                <a:uFillTx/>
                <a:latin typeface="Script MT Bold"/>
              </a:rPr>
              <a:t>¡</a:t>
            </a:r>
            <a:r>
              <a:rPr b="1" i="1" lang="es-MX" sz="6600" spc="-1" strike="noStrike">
                <a:solidFill>
                  <a:srgbClr val="ffffff"/>
                </a:solidFill>
                <a:latin typeface="Script MT Bold"/>
              </a:rPr>
              <a:t>Les deseamos un bonito día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51280" y="0"/>
            <a:ext cx="4835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niel Bernoull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(1700-1782)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50920" y="1916280"/>
            <a:ext cx="476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iz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atemático, estadístico, físico y méd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59748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4724280"/>
            <a:ext cx="8893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1738 publicó “Hidrodinámica” en el que expone el “principio de Bernoulli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izo importantes contribuciones a la teoría de probab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4788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Tahoma"/>
              </a:rPr>
              <a:t>Definición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120" y="2205000"/>
            <a:ext cx="864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 una variable aleatoria discreta que mide el número de éxi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 realiza con un único experi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 dicotómica porque tiene 2 posibles resultados (éxito o fracas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Se representa como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Éxito “p” y fracaso “q” = (1 – 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 fórmula 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 =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s-E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−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1 − </a:t>
            </a:r>
            <a:r>
              <a:rPr b="0" i="1" lang="es-E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con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{0,1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 función de distribu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5300640"/>
            <a:ext cx="4680000" cy="13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3 Imagen" descr="\begin{displaymath}F(x) = \left\{&#10;\begin{array}{ll}&#10;0 &amp; \mbox{ si } x &lt; 0&#10;\\&#10;q ...&#10;... } 0 \leq x&lt; 1&#10;\\&#10;1 &amp; \mbox{ si } x \geq 1&#10;\end{array}\right.&#10;\end{displaymath}"/>
          <p:cNvPicPr/>
          <p:nvPr/>
        </p:nvPicPr>
        <p:blipFill>
          <a:blip r:embed="rId2"/>
          <a:stretch/>
        </p:blipFill>
        <p:spPr>
          <a:xfrm>
            <a:off x="2987640" y="5229360"/>
            <a:ext cx="42912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968560"/>
            <a:ext cx="5545080" cy="38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Ejemplos de su uso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anzamiento de moned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005280"/>
            <a:ext cx="5508720" cy="3852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935680" y="2421000"/>
            <a:ext cx="26686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Tahoma"/>
              </a:rPr>
              <a:t>"Lanzar una moneda, probabilidad de conseguir que salga cruz".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Se trata de un solo experimento, con dos resultados posibles: el éxito (p) se considerará sacar cruz. Valdrá 0,5. El fracaso (q) que saliera cara, que vale (1 - p) = 1 - 0,5 = 0,5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La variable aleatoria X medirá "número de cruces que salen en un lanzamiento", y sólo existirán dos resultados posibles: 0 (ninguna cruz, es decir, salir cara) y 1 (una cruz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0) =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0) = 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1) =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) = 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anzamiento de dad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48243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Probabilidad que al lanzar un dado salga un 6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uando lanzamos un dado tenemos 6 posibles resultad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Ω = {1,2,3,4,5,6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considera éxito sacar un 6, por tanto, la probabilidad será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/ 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considera fracaso no sacar un 6, por tanto, se considera fracaso sacar cualquier otro resul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1 / 6 = 5 /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r tanto, la variable aleatoria X se distribuye como una Bernoulli de parámetr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/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˜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Be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(1 / 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La probabilidad de que obtengamos un 6 viene definida como la probabilidad de que X sea igual a 1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1) = 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1) = (1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* (5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1 / 6 = 0.1667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La probabilidad de que NO obtengamos un 6 viene definida como la probabilidad de que X sea igual a 0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0) = 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0) = (1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* (5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5 / 6 = 0.8333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0:44:57Z</dcterms:created>
  <dc:creator>COMPUTADORA</dc:creator>
  <dc:description/>
  <dc:language>en-US</dc:language>
  <cp:lastModifiedBy>COMPUTADORA</cp:lastModifiedBy>
  <dcterms:modified xsi:type="dcterms:W3CDTF">2010-04-18T21:37:32Z</dcterms:modified>
  <cp:revision>7</cp:revision>
  <dc:subject/>
  <dc:title>DISTRIBUCIÓN DE BERNOULLI</dc:title>
</cp:coreProperties>
</file>